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9C7-A297-4FD9-9B29-17B36A1D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A7E-DDFA-47CC-8CA6-AC81D642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C17-49C1-44A8-BE42-9A13DD6D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BD3-6BCE-4A08-B0AB-767768EE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D69-BE73-4EAD-B3D3-645B9825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33E-BB5F-4A11-8157-A2A8FCC4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AF3-AE70-4E8C-8903-515063C5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6BE-651F-4666-AC13-EB1D4C20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BE3-57D8-4A8E-A1C1-A6B58346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F77-6E3B-485A-B2B3-D5B29FB4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562-0CF4-4169-ACC8-00266E1F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96A-E9D3-4AF8-A80A-5F1EB873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CFF9-5827-4D54-993C-F200D4234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ravelel.ru/respubliki-rossii-karty-respublik-otdyx-turizm" TargetMode="External"/><Relationship Id="rId2" Type="http://schemas.openxmlformats.org/officeDocument/2006/relationships/hyperlink" Target="http://poisk-druga.ru/breeds/poroda-d/238-dalmatin.html" TargetMode="External"/><Relationship Id="rId3" Type="http://schemas.openxmlformats.org/officeDocument/2006/relationships/hyperlink" Target="http://photo-sever.ru/2/9/illyustratsii-narodi-kraynego-severa.html" TargetMode="External"/><Relationship Id="rId4" Type="http://schemas.openxmlformats.org/officeDocument/2006/relationships/hyperlink" Target="http://vorkutainfo.ru/jit_severa.php" TargetMode="External"/><Relationship Id="rId5" Type="http://schemas.openxmlformats.org/officeDocument/2006/relationships/hyperlink" Target="http://photo-sever.ru/2/9/kak-givut-narodi-severa.html" TargetMode="External"/><Relationship Id="rId6" Type="http://schemas.openxmlformats.org/officeDocument/2006/relationships/hyperlink" Target="http://akvis.com/ru/retoucher-tutorial/examples/gipsy.php" TargetMode="External"/><Relationship Id="rId7" Type="http://schemas.openxmlformats.org/officeDocument/2006/relationships/hyperlink" Target="http://ru.wikipedia.org/wiki/&#1050;&#1091;&#1083;&#1100;&#1090;&#1091;&#1088;&#1072;_&#1094;&#1099;&#1075;&#1072;&#1085;" TargetMode="External"/><Relationship Id="rId8" Type="http://schemas.openxmlformats.org/officeDocument/2006/relationships/hyperlink" Target="http://svenko.net/index.htm" TargetMode="External"/><Relationship Id="rId9" Type="http://schemas.openxmlformats.org/officeDocument/2006/relationships/hyperlink" Target="http://www.lechaim.ru/ARHIV/118/fede.htm" TargetMode="External"/><Relationship Id="rId10" Type="http://schemas.openxmlformats.org/officeDocument/2006/relationships/hyperlink" Target="http://ru.wikipedia.org/wiki/&#1041;&#1091;&#1093;&#1072;&#1088;&#1089;&#1082;&#1080;&#1077;_&#1077;&#1074;&#1088;&#1077;&#1080;" TargetMode="External"/><Relationship Id="rId11" Type="http://schemas.openxmlformats.org/officeDocument/2006/relationships/hyperlink" Target="http://poligonkavkaz.info/topic/6357-nacionalnie-kostjumi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ravelel.ru/respublika-adygeya-na-karte-rossii" TargetMode="External"/><Relationship Id="rId2" Type="http://schemas.openxmlformats.org/officeDocument/2006/relationships/hyperlink" Target="http://travelel.ru/majkop-na-karte-rossii-s-ulicami" TargetMode="External"/><Relationship Id="rId3" Type="http://schemas.openxmlformats.org/officeDocument/2006/relationships/hyperlink" Target="http://travelel.ru/karta-respubliki-altaj" TargetMode="External"/><Relationship Id="rId4" Type="http://schemas.openxmlformats.org/officeDocument/2006/relationships/hyperlink" Target="http://travelel.ru/karta-gorno-altajska" TargetMode="External"/><Relationship Id="rId5" Type="http://schemas.openxmlformats.org/officeDocument/2006/relationships/hyperlink" Target="http://travelel.ru/podrobnaya-karta-respubliki-bashkortostan-so-sputnika" TargetMode="External"/><Relationship Id="rId6" Type="http://schemas.openxmlformats.org/officeDocument/2006/relationships/hyperlink" Target="http://travelel.ru/karty-ufy-s-ulicami-i-domami-so-sputnika" TargetMode="External"/><Relationship Id="rId7" Type="http://schemas.openxmlformats.org/officeDocument/2006/relationships/hyperlink" Target="http://travelel.ru/karta-buryatii-so-sputnika-administrativnaya-fizicheskaya" TargetMode="External"/><Relationship Id="rId8" Type="http://schemas.openxmlformats.org/officeDocument/2006/relationships/hyperlink" Target="http://travelel.ru/karta-ulan-ude-s-ulicami-i-nomerami-domov-2011" TargetMode="External"/><Relationship Id="rId9" Type="http://schemas.openxmlformats.org/officeDocument/2006/relationships/hyperlink" Target="http://travelel.ru/karta-dagestana" TargetMode="External"/><Relationship Id="rId10" Type="http://schemas.openxmlformats.org/officeDocument/2006/relationships/hyperlink" Target="http://travelel.ru/karta-maxachkaly" TargetMode="External"/><Relationship Id="rId11" Type="http://schemas.openxmlformats.org/officeDocument/2006/relationships/hyperlink" Target="http://travelel.ru/karta-ingushetii" TargetMode="External"/><Relationship Id="rId12" Type="http://schemas.openxmlformats.org/officeDocument/2006/relationships/hyperlink" Target="http://travelel.ru/karta-goroda-magas" TargetMode="External"/><Relationship Id="rId13" Type="http://schemas.openxmlformats.org/officeDocument/2006/relationships/hyperlink" Target="http://travelel.ru/kabardino-balkariya-dlya-turistov" TargetMode="External"/><Relationship Id="rId14" Type="http://schemas.openxmlformats.org/officeDocument/2006/relationships/hyperlink" Target="http://travelel.ru/nalchik-dlya-turistov" TargetMode="External"/><Relationship Id="rId15" Type="http://schemas.openxmlformats.org/officeDocument/2006/relationships/hyperlink" Target="http://travelel.ru/karta-kalmykii" TargetMode="External"/><Relationship Id="rId16" Type="http://schemas.openxmlformats.org/officeDocument/2006/relationships/hyperlink" Target="http://travelel.ru/elista-dlya-turista" TargetMode="External"/><Relationship Id="rId17" Type="http://schemas.openxmlformats.org/officeDocument/2006/relationships/hyperlink" Target="http://travelel.ru/karachaevo-cherkessiya-dlya-turista" TargetMode="External"/><Relationship Id="rId18" Type="http://schemas.openxmlformats.org/officeDocument/2006/relationships/hyperlink" Target="http://travelel.ru/cherkessk-dlya-turista" TargetMode="External"/><Relationship Id="rId19" Type="http://schemas.openxmlformats.org/officeDocument/2006/relationships/hyperlink" Target="http://travelel.ru/kareliya-dlya-turista" TargetMode="External"/><Relationship Id="rId20" Type="http://schemas.openxmlformats.org/officeDocument/2006/relationships/hyperlink" Target="http://travelel.ru/turizm-v-petrozavodske" TargetMode="External"/><Relationship Id="rId21" Type="http://schemas.openxmlformats.org/officeDocument/2006/relationships/hyperlink" Target="http://travelel.ru/karta-respubliki-komi" TargetMode="External"/><Relationship Id="rId22" Type="http://schemas.openxmlformats.org/officeDocument/2006/relationships/hyperlink" Target="http://travelel.ru/syktyvkar-na-karte-rossii-s-ulicami-i-domami-so-sputnika" TargetMode="External"/><Relationship Id="rId23" Type="http://schemas.openxmlformats.org/officeDocument/2006/relationships/hyperlink" Target="http://travelel.ru/karta-marij-el" TargetMode="External"/><Relationship Id="rId24" Type="http://schemas.openxmlformats.org/officeDocument/2006/relationships/hyperlink" Target="http://travelel.ru/joshkar-ola-dlya-turista" TargetMode="External"/><Relationship Id="rId25" Type="http://schemas.openxmlformats.org/officeDocument/2006/relationships/hyperlink" Target="http://travelel.ru/otdyx-v-mordovii" TargetMode="External"/><Relationship Id="rId26" Type="http://schemas.openxmlformats.org/officeDocument/2006/relationships/hyperlink" Target="http://travelel.ru/karta-saranska" TargetMode="External"/><Relationship Id="rId27" Type="http://schemas.openxmlformats.org/officeDocument/2006/relationships/hyperlink" Target="http://travelel.ru/yakutiya-dlya-turista" TargetMode="External"/><Relationship Id="rId28" Type="http://schemas.openxmlformats.org/officeDocument/2006/relationships/hyperlink" Target="http://travelel.ru/yakutsk-dlya-turista" TargetMode="External"/><Relationship Id="rId29" Type="http://schemas.openxmlformats.org/officeDocument/2006/relationships/hyperlink" Target="http://travelel.ru/karta-severnoj-osetii-i-polycom-hdx-4000" TargetMode="External"/><Relationship Id="rId30" Type="http://schemas.openxmlformats.org/officeDocument/2006/relationships/hyperlink" Target="http://travelel.ru/karta-vladikavkaza" TargetMode="External"/><Relationship Id="rId31" Type="http://schemas.openxmlformats.org/officeDocument/2006/relationships/hyperlink" Target="http://travelel.ru/podrobnaya-karta-respubliki-tatarstan-so-sputnika" TargetMode="External"/><Relationship Id="rId32" Type="http://schemas.openxmlformats.org/officeDocument/2006/relationships/hyperlink" Target="http://travelel.ru/karta-kazani-s-ulicami-i-domami-so-sputnika" TargetMode="External"/><Relationship Id="rId33" Type="http://schemas.openxmlformats.org/officeDocument/2006/relationships/hyperlink" Target="http://travelel.ru/karta-respubliki-tyva-podrobnaya-so-sputnika" TargetMode="External"/><Relationship Id="rId34" Type="http://schemas.openxmlformats.org/officeDocument/2006/relationships/hyperlink" Target="http://travelel.ru/karta-kyzyla-s-ulicami-i-nomerami-domov" TargetMode="External"/><Relationship Id="rId35" Type="http://schemas.openxmlformats.org/officeDocument/2006/relationships/hyperlink" Target="http://travelel.ru/podrobnaya-karta-udmurtii" TargetMode="External"/><Relationship Id="rId36" Type="http://schemas.openxmlformats.org/officeDocument/2006/relationships/hyperlink" Target="http://travelel.ru/karta-izhevska-s-ulicami-i-nomerami-domov" TargetMode="External"/><Relationship Id="rId37" Type="http://schemas.openxmlformats.org/officeDocument/2006/relationships/hyperlink" Target="http://travelel.ru/karta-respubliki-xakasii-podrobnaya-so-sputnika" TargetMode="External"/><Relationship Id="rId38" Type="http://schemas.openxmlformats.org/officeDocument/2006/relationships/hyperlink" Target="http://travelel.ru/karta-abakana-s-ulicami-i-nomerami-domov" TargetMode="External"/><Relationship Id="rId39" Type="http://schemas.openxmlformats.org/officeDocument/2006/relationships/hyperlink" Target="http://travelel.ru/karta-respubliki-chechnya-podrobnaya-so-sputnika" TargetMode="External"/><Relationship Id="rId40" Type="http://schemas.openxmlformats.org/officeDocument/2006/relationships/hyperlink" Target="http://travelel.ru/karta-groznogo-s-ulicami-i-nomerami-domov" TargetMode="External"/><Relationship Id="rId41" Type="http://schemas.openxmlformats.org/officeDocument/2006/relationships/hyperlink" Target="http://travelel.ru/karta-respubliki-chuvashiya-podrobnaya-so-sputnika" TargetMode="External"/><Relationship Id="rId42" Type="http://schemas.openxmlformats.org/officeDocument/2006/relationships/hyperlink" Target="http://travelel.ru/karta-cheboksar-s-ulicami-i-nomerami-domov" TargetMode="External"/><Relationship Id="rId4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ЮДИ МИРА В МИРЕ ЖИТЬ ХОТЯ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КЛАССНОЕ МЕРОПРИЯТИЕ ДЛЯ СТАРШЕКЛАССНИКОВ  В РАМКАХ ДНЯ ТОЛЕРАНТ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ю подготовила Аникин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КИ (УЙЛЬТ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Сахалинская обл., численность-350-360, группа,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ЛГ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Таймырский (Долгано-Ненецкий) автономный округ, республика Саха (Якутия), Красноярский край, Численность- 6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 численность-70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ЕЛЬМ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и Магаданская обл., Корякский и Чукотский автономный округ, Численность-24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А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Мурманская обл., численность-1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Е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арелия, численность-130929, из них в России 124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ЛЬКУП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омская обл., Ямало-ненецкий авт. окр., численность-36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. Эвенкийский автономный округ, численность-11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ДЭГЕ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Приморский и Хабаровский край, численность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И-ЗЫРЯ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оми, численность-344 5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Ь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Хабаровский край, численность-3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Я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ка и Магаданская обл., корякский и Чукотский автономный окр., численность-9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НТЫ МАНС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Тюменская обл, ханты-Мансийский и Ямало-Ненецкий автономный окр, Ненецкий автоном. окр,численность-8724, язык- финно-угорская группа уральско- юкагирской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ВА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Магаданская обл., Чукотский авт. окр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А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вский и Приморские края, Сахалинская обл. Численность-1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К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Республика Саха (Якутия), численность-15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ГАНАС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аймырский авт. окр., численность-1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, Бурятия, Красноярский, Хабаровский, Приморские Края, Иркутская, Читинская, Амурская, Томская, Тюменская, Сахалинская обл., Эвенкийский и Таймырский (Долгано-Ненецкий) авт. Окр.,численность-301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ГИДАЛЫ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свкий край, численность-6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 и Хабаровский край, Магаданская и Камчатская обл., численность-171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 Красноярский край, Архангельская и Мурманская области, Ненецкий, Ямало-Ненецкий, Ханты-Мансийский и Таймырский (Долгано-Ненецкий) автономные округа., численность - 34 66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КАГИ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(Якутия), Магаданская обл, Чукотский автономный округ, численность-1140, язык- юкагирская группа уральско-юкагирской семьи яз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ВХ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численность-46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К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Республика Саха (Якутия), численность-38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сточник - полярная энциклопедия школьника «Арктика - мой дом» , 199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ыгане - народ, проживающий на нескольких континен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Vcy;&amp;ocy;&amp;scy;&amp;scy;&amp;tcy;&amp;acy;&amp;ncy;&amp;ocy;&amp;vcy;&amp;lcy;&amp;iecy;&amp;ncy;&amp;ncy;&amp;acy;&amp;yacy; &amp;fcy;&amp;ocy;&amp;tcy;&amp;ocy;&amp;gcy;&amp;rcy;&amp;acy;&amp;fcy;&amp;icy;&amp;yacy;"/>
          <p:cNvPicPr/>
          <p:nvPr/>
        </p:nvPicPr>
        <p:blipFill>
          <a:blip r:embed="rId1"/>
          <a:stretch/>
        </p:blipFill>
        <p:spPr>
          <a:xfrm>
            <a:off x="2362320" y="2514600"/>
            <a:ext cx="449568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4673520"/>
            <a:ext cx="312408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"/>
          <p:cNvPicPr/>
          <p:nvPr/>
        </p:nvPicPr>
        <p:blipFill>
          <a:blip r:embed="rId3"/>
          <a:stretch/>
        </p:blipFill>
        <p:spPr>
          <a:xfrm>
            <a:off x="6210360" y="1295280"/>
            <a:ext cx="2933640" cy="2044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Vcy;&amp;icy;&amp;dcy;&amp;iecy;&amp;ocy; &amp;kcy;&amp;lcy;&amp;icy;&amp;pcy;&amp;ycy;. &amp;TScy;&amp;ycy;&amp;gcy;&amp;acy;&amp;ncy;&amp;scy;&amp;kcy;&amp;icy;&amp;jcy; &amp;tcy;&amp;acy;&amp;bcy;&amp;ocy;&amp;rcy;."/>
          <p:cNvPicPr/>
          <p:nvPr/>
        </p:nvPicPr>
        <p:blipFill>
          <a:blip r:embed="rId4"/>
          <a:stretch/>
        </p:blipFill>
        <p:spPr>
          <a:xfrm>
            <a:off x="5905440" y="4524480"/>
            <a:ext cx="3238560" cy="233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Pcy;&amp;acy;&amp;tcy;&amp;rcy;&amp;icy;&amp;ncy;&amp;acy; &amp;SHcy;&amp;acy;&amp;rcy;&amp;kcy;&amp;ocy;&amp;zcy;&amp;icy;, &amp;Lcy;&amp;yacy;&amp;lcy;&amp;yacy; &amp;Mcy;&amp;ocy;&amp;lcy;&amp;dcy;&amp;acy;&amp;vcy;&amp;scy;&amp;kcy;&amp;acy;&amp;yacy;, &amp;Lcy;&amp;iecy;&amp;rcy;&amp;acy; (&amp;Vcy;&amp;acy;&amp;lcy;&amp;iecy;&amp;rcy;&amp;icy;&amp;yacy;) &amp;YAcy;&amp;ncy;&amp;ycy;&amp;shcy;&amp;iecy;&amp;vcy;&amp;acy;, &amp;Pcy;&amp;iocy;&amp;tcy;&amp;rcy; &amp;YAcy;&amp;ncy;&amp;ycy;&amp;shcy;&amp;iecy;&amp;vcy;."/>
          <p:cNvPicPr/>
          <p:nvPr/>
        </p:nvPicPr>
        <p:blipFill>
          <a:blip r:embed="rId5"/>
          <a:stretch/>
        </p:blipFill>
        <p:spPr>
          <a:xfrm>
            <a:off x="0" y="1295280"/>
            <a:ext cx="25146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вре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58256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62920" y="1143000"/>
            <a:ext cx="1787400" cy="26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4276800"/>
            <a:ext cx="4190760" cy="2581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4762800" cy="318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09480" y="4232160"/>
            <a:ext cx="36576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оды Кавказа - азербайджане, армяне, абхазцы, грузины, лезгин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7180200" y="1447920"/>
            <a:ext cx="196380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286000" y="15620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5410080" y="4648320"/>
            <a:ext cx="3353040" cy="2239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5715000" y="2209680"/>
            <a:ext cx="136836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2590920" y="4191120"/>
            <a:ext cx="2895480" cy="247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&amp;Acy;&amp;zcy;&amp;iecy;&amp;rcy;&amp;bcy;&amp;acy;&amp;jcy;&amp;dcy;&amp;zhcy;&amp;acy;&amp;ncy;"/>
          <p:cNvPicPr/>
          <p:nvPr/>
        </p:nvPicPr>
        <p:blipFill>
          <a:blip r:embed="rId6"/>
          <a:stretch/>
        </p:blipFill>
        <p:spPr>
          <a:xfrm>
            <a:off x="1522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&amp;Acy;&amp;bcy;&amp;khcy;&amp;acy;&amp;zcy;&amp;icy;&amp;yacy;"/>
          <p:cNvPicPr/>
          <p:nvPr/>
        </p:nvPicPr>
        <p:blipFill>
          <a:blip r:embed="rId7"/>
          <a:stretch/>
        </p:blipFill>
        <p:spPr>
          <a:xfrm>
            <a:off x="152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ая краса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19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ажною «павой», «душой голубицей»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здавна так называли девицу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евичьи руки в труде и заботе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ранней поры привыкали к работ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кали и пряли, вязали и шили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еяли, жали и тесто месил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трудной работе сгибалась спина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о выходила на праздник он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дивном наряде крестьянской одежд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де весь узор о мечте и надежд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асным расшиты запон и рубах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Черное — скорбь, что на родине свято)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имволы солнца и знаки земли.</a:t>
            </a:r>
            <a:br>
              <a:rPr sz="16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200" y="106668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подолу, как на вспаханном поле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омбы узорной легли полосою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тери-жизни и птицы любв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Шею украсили бусы, мониста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исер, кораллы, янтарь золотистый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х драгоценней убор головной –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мчугом шитый и битью златой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ка, сорока — убор молод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сник, венец — украшенье дев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борник, повойник — убор для старухи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ый красивый — убор молодух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к испокон сохранен на Руси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нский костюм небывалой красы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15224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ие национальные костю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Я, ты, он, она – вместе дружная страна, вместе дружная семья…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&amp;lcy;&amp;ucy;&amp;chcy;&amp;shcy;&amp;icy;&amp;iecy; &amp;dcy;&amp;rcy;&amp;ucy;&amp;zcy;&amp;softcy;&amp;yacy;"/>
          <p:cNvPicPr/>
          <p:nvPr/>
        </p:nvPicPr>
        <p:blipFill>
          <a:blip r:embed="rId1"/>
          <a:stretch/>
        </p:blipFill>
        <p:spPr>
          <a:xfrm>
            <a:off x="0" y="1219320"/>
            <a:ext cx="2819520" cy="233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&amp;kcy;&amp;acy;&amp;rcy;&amp;tcy;&amp;icy;&amp;ncy;&amp;kcy;&amp;acy; &amp;scy; &amp;ncy;&amp;acy;&amp;dcy;&amp;pcy;&amp;icy;&amp;scy;&amp;softcy;&amp;yucy;"/>
          <p:cNvPicPr/>
          <p:nvPr/>
        </p:nvPicPr>
        <p:blipFill>
          <a:blip r:embed="rId2"/>
          <a:stretch/>
        </p:blipFill>
        <p:spPr>
          <a:xfrm>
            <a:off x="6019920" y="1219320"/>
            <a:ext cx="3124080" cy="242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http://www.wallon.ru/_ph/53/694113576.jpg"/>
          <p:cNvPicPr/>
          <p:nvPr/>
        </p:nvPicPr>
        <p:blipFill>
          <a:blip r:embed="rId3"/>
          <a:stretch/>
        </p:blipFill>
        <p:spPr>
          <a:xfrm>
            <a:off x="3048120" y="1523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057400" y="3581280"/>
            <a:ext cx="499104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Ребята, давайте жить дружно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257720" cy="416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 rot="10800000">
            <a:off x="7560" y="5638320"/>
            <a:ext cx="890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Благодарю за вним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avelel.ru/respubliki-rossii-karty-respublik-otdyx-turiz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isk-druga.ru/breeds/poroda-d/238-dalmati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-sever.ru/2/9/illyustratsii-narodi-kraynego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orkutainfo.ru/jit_severa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hoto-sever.ru/2/9/kak-givut-narodi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kvis.com/ru/retoucher-tutorial/examples/gipsy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u.wikipedia.org/wiki/%D0%9A%D1%83%D0%BB%D1%8C%D1%82%D1%83%D1%80%D0%B0_%D1%86%D1%8B%D0%B3%D0%B0%D0%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venko.net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lechaim.ru/ARHIV/118/fed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wiki/%D0%91%D1%83%D1%85%D0%B0%D1%80%D1%81%D0%BA%D0%B8%D0%B5_%D0%B5%D0%B2%D1%80%D0%B5%D0%B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oligonkavkaz.info/topic/6357-nacionalnie-kostjum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oto.mail.ru/community/qizdar/112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enart-artdeco.livejournal.com/7173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liveinternet.ru/tags/%F0%F3%F1%F1%EA%E8%E9+%ED%E0%F0%EE%E4%ED%FB%E9+%EA%EE%F1%F2%FE%EC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"http://blestki.com/drug/kartinki-druzjam-s-nadpisjami.gif" border="0"&gt;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blestki.com/drug/druzjam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wallon.ru/photo/raznoe/druzhba_narodov/53-0-31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vk.com/photo-20079136_1863840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masha-i-medved.net/kot-leopold-kartinki-iz-multik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 ноября – Международный день терпимости (толерантност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49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прове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толерантного отношения к людям разных национальностей, воспитание уважительного отношения к культуре разных народов, разрушение стереотипов в отношении какой- либо нации, что является очень важным в нашей многонациональ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Bcy;&amp;rcy;&amp;ocy;&amp;dcy;&amp;yacy;&amp;gcy;&amp;icy; &amp;scy;&amp;iecy;&amp;vcy;&amp;iecy;&amp;rcy;&amp;acy; &amp;scy;&amp;kcy;&amp;acy;&amp;chcy;&amp;acy;&amp;tcy;&amp;softcy;.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http://travelel.ru/wp-content/uploads/2011/09/respubliki-rossii.jpg"/>
          <p:cNvPicPr/>
          <p:nvPr/>
        </p:nvPicPr>
        <p:blipFill>
          <a:blip r:embed="rId1"/>
          <a:stretch/>
        </p:blipFill>
        <p:spPr>
          <a:xfrm>
            <a:off x="0" y="914400"/>
            <a:ext cx="9163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бъект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еспублика Адыге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Адыге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Майко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Республика Алта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Горно-Алтай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Республика Башкорто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Уф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Республика Бур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Улан-Уд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Республика Даге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Махачка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Республика Ингуш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Мага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Кабардино-Балкар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Нальч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Республика Калмык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Эли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Карачаево-Черкес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Черкес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Республика Карел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Петрозавод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Республика Ко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Сыктывк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3"/>
              </a:rPr>
              <a:t>Республика Марий Э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Йошкар-О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5"/>
              </a:rPr>
              <a:t>Республика Мордо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6"/>
              </a:rPr>
              <a:t>Саран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7"/>
              </a:rPr>
              <a:t>Республика Сах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Якути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8"/>
              </a:rPr>
              <a:t>Якут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9"/>
              </a:rPr>
              <a:t>Республика Северная Ос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Алания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0"/>
              </a:rPr>
              <a:t>Владикавка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1"/>
              </a:rPr>
              <a:t>Республика Татар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Татарстан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2"/>
              </a:rPr>
              <a:t>Каза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3"/>
              </a:rPr>
              <a:t>Республика Ты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4"/>
              </a:rPr>
              <a:t>Кызы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5"/>
              </a:rPr>
              <a:t>Удмурт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6"/>
              </a:rPr>
              <a:t>Иже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7"/>
              </a:rPr>
              <a:t>Республика Хака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8"/>
              </a:rPr>
              <a:t>Абак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9"/>
              </a:rPr>
              <a:t>Чечен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0"/>
              </a:rPr>
              <a:t>Гроз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1. Чувашская Республика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1"/>
              </a:rPr>
              <a:t>Чуваш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2"/>
              </a:rPr>
              <a:t>Чебокса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 ноября - Международный день 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терпимое отношение к людям, отличающимся о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умение понять и принять другого человека, отличающегося от нас цветом кожи,  разрезом глаз, образом жизни, традициями, говорящего на другом языке, других убеждений, рели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аки бывают разны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й-терьер, сенбернар, немецкая овчарка, пинчер немецкий, бельгийский гриффон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&amp;Tcy;&amp;ocy;&amp;jcy;-&amp;tcy;&amp;iecy;&amp;rcy;&amp;softcy;&amp;iecy;&amp;rcy; (&amp;Acy;&amp;ncy;&amp;gcy;&amp;lcy;&amp;icy;&amp;jcy;&amp;scy;&amp;kcy;&amp;icy;&amp;jcy;)"/>
          <p:cNvPicPr/>
          <p:nvPr/>
        </p:nvPicPr>
        <p:blipFill>
          <a:blip r:embed="rId1"/>
          <a:stretch/>
        </p:blipFill>
        <p:spPr>
          <a:xfrm>
            <a:off x="380880" y="1959120"/>
            <a:ext cx="2590920" cy="221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&amp;Scy;&amp;iecy;&amp;ncy;&amp;bcy;&amp;iecy;&amp;rcy;&amp;ncy;&amp;acy;&amp;rcy;"/>
          <p:cNvPicPr/>
          <p:nvPr/>
        </p:nvPicPr>
        <p:blipFill>
          <a:blip r:embed="rId2"/>
          <a:stretch/>
        </p:blipFill>
        <p:spPr>
          <a:xfrm>
            <a:off x="3124080" y="2057400"/>
            <a:ext cx="289584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&amp;Ncy;&amp;iecy;&amp;mcy;&amp;iecy;&amp;tscy;&amp;kcy;&amp;acy;&amp;yacy; &amp;ocy;&amp;vcy;&amp;chcy;&amp;acy;&amp;rcy;&amp;kcy;&amp;acy; &amp;dcy;&amp;lcy;&amp;icy;&amp;ncy;&amp;ncy;&amp;ocy;&amp;shcy;&amp;iecy;&amp;rcy;&amp;scy;&amp;tcy;&amp;ncy;&amp;acy;&amp;yacy;"/>
          <p:cNvPicPr/>
          <p:nvPr/>
        </p:nvPicPr>
        <p:blipFill>
          <a:blip r:embed="rId3"/>
          <a:stretch/>
        </p:blipFill>
        <p:spPr>
          <a:xfrm>
            <a:off x="6172200" y="1978200"/>
            <a:ext cx="266688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&amp;Pcy;&amp;icy;&amp;ncy;&amp;chcy;&amp;iecy;&amp;rcy; &amp;ncy;&amp;iecy;&amp;mcy;&amp;iecy;&amp;tscy;&amp;kcy;&amp;icy;&amp;jcy;"/>
          <p:cNvPicPr/>
          <p:nvPr/>
        </p:nvPicPr>
        <p:blipFill>
          <a:blip r:embed="rId4"/>
          <a:stretch/>
        </p:blipFill>
        <p:spPr>
          <a:xfrm>
            <a:off x="0" y="43434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&amp;Bcy;&amp;iecy;&amp;lcy;&amp;softcy;&amp;gcy;&amp;icy;&amp;jcy;&amp;scy;&amp;kcy;&amp;icy;&amp;jcy; &amp;gcy;&amp;rcy;&amp;icy;&amp;fcy;&amp;fcy;&amp;ocy;&amp;ncy;"/>
          <p:cNvPicPr/>
          <p:nvPr/>
        </p:nvPicPr>
        <p:blipFill>
          <a:blip r:embed="rId5"/>
          <a:stretch/>
        </p:blipFill>
        <p:spPr>
          <a:xfrm>
            <a:off x="6286680" y="4343400"/>
            <a:ext cx="285732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&amp;Dcy;&amp;acy;&amp;lcy;&amp;mcy;&amp;acy;&amp;tcy;&amp;icy;&amp;ncy;"/>
          <p:cNvPicPr/>
          <p:nvPr/>
        </p:nvPicPr>
        <p:blipFill>
          <a:blip r:embed="rId6"/>
          <a:stretch/>
        </p:blipFill>
        <p:spPr>
          <a:xfrm>
            <a:off x="3200400" y="4324320"/>
            <a:ext cx="28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ы Крайнего Севе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&amp;Mcy;&amp;iecy;&amp;rcy;&amp;icy;&amp;dcy;&amp;icy;&amp;acy;&amp;ncy; &amp;scy;&amp;iecy;&amp;vcy;&amp;iecy;&amp;rcy;."/>
          <p:cNvPicPr/>
          <p:nvPr/>
        </p:nvPicPr>
        <p:blipFill>
          <a:blip r:embed="rId1"/>
          <a:stretch/>
        </p:blipFill>
        <p:spPr>
          <a:xfrm>
            <a:off x="6629400" y="365760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&amp;Ncy;&amp;acy;&amp;rcy;&amp;ocy;&amp;dcy;&amp;ycy; &amp;scy;&amp;iecy;&amp;vcy;&amp;iecy;&amp;rcy;&amp;acy; &amp;ncy;&amp;iecy;&amp;ncy;&amp;tscy;&amp;ycy;."/>
          <p:cNvPicPr/>
          <p:nvPr/>
        </p:nvPicPr>
        <p:blipFill>
          <a:blip r:embed="rId2"/>
          <a:stretch/>
        </p:blipFill>
        <p:spPr>
          <a:xfrm>
            <a:off x="5791320" y="1143000"/>
            <a:ext cx="3352680" cy="221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&amp;Kcy;&amp;acy;&amp;kcy; &amp;zhcy;&amp;icy;&amp;vcy;&amp;ucy;&amp;tcy; &amp;ncy;&amp;acy;&amp;rcy;&amp;ocy;&amp;dcy;&amp;ycy; &amp;scy;&amp;iecy;&amp;vcy;&amp;iecy;&amp;rcy;&amp;acy;."/>
          <p:cNvPicPr/>
          <p:nvPr/>
        </p:nvPicPr>
        <p:blipFill>
          <a:blip r:embed="rId3"/>
          <a:stretch/>
        </p:blipFill>
        <p:spPr>
          <a:xfrm>
            <a:off x="2895480" y="4419720"/>
            <a:ext cx="3200400" cy="22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&amp;Scy;&amp;mcy;&amp;ocy;&amp;tcy;&amp;rcy;&amp;iecy;&amp;tcy;&amp;softcy; &amp;kcy;&amp;iecy;&amp;vcy;&amp;icy;&amp;ncy; &amp;scy; &amp;scy;&amp;iecy;&amp;vcy;&amp;iecy;&amp;rcy;&amp;acy;."/>
          <p:cNvPicPr/>
          <p:nvPr/>
        </p:nvPicPr>
        <p:blipFill>
          <a:blip r:embed="rId4"/>
          <a:stretch/>
        </p:blipFill>
        <p:spPr>
          <a:xfrm>
            <a:off x="0" y="10666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&amp;Acy;&amp;rcy;&amp;kcy;&amp;acy;&amp;dcy;&amp;acy; &amp;scy;&amp;iecy;&amp;vcy;&amp;iecy;&amp;rcy;."/>
          <p:cNvPicPr/>
          <p:nvPr/>
        </p:nvPicPr>
        <p:blipFill>
          <a:blip r:embed="rId5"/>
          <a:stretch/>
        </p:blipFill>
        <p:spPr>
          <a:xfrm>
            <a:off x="2895480" y="2133720"/>
            <a:ext cx="3276720" cy="2179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&amp;Kcy;&amp;lcy;&amp;icy;&amp;pcy;&amp;ycy; &amp;dcy;&amp;ocy;&amp;rcy;&amp;ocy;&amp;gcy;&amp;icy; &amp;scy;&amp;iecy;&amp;vcy;&amp;iecy;&amp;rcy;&amp;acy;."/>
          <p:cNvPicPr/>
          <p:nvPr/>
        </p:nvPicPr>
        <p:blipFill>
          <a:blip r:embed="rId6"/>
          <a:stretch/>
        </p:blipFill>
        <p:spPr>
          <a:xfrm>
            <a:off x="457200" y="3505320"/>
            <a:ext cx="20257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30T02:54:5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